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1.png" ContentType="image/pn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482C8-3875-426B-AD81-BF2425A1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3280A-B56A-4EC6-B132-41E91B45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39BB7-FA19-48B1-BE21-F3313808D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4F3A0-B611-4DA3-820F-825E5090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9FDE-C236-49AF-B0FC-ADBFC34C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45B6-9511-486D-BF90-FAD86538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CDEE-3CE2-48BB-89F2-D6FC60E0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1D67-A07E-4E42-A8EC-B221CFA1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7B78-FF1B-4180-AF94-38840413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B578-163B-411A-804A-CCDFEF0E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CB21-94F4-42B8-B00A-1A059B2C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81620-BBF3-4CAF-A224-256FCCF4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C82F-8310-4319-B31F-70C55513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3D5F-CB47-4D4D-B8C6-36C3AC00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4DA9-BA7D-4350-8AB4-31139972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0687-99F0-488D-9065-53525528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84A3-3EC5-46AD-8034-D6478E7A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C5C9C-CAE4-4D42-91E2-09358DA0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47679-B55B-4076-96AE-CDCD2CC8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D45B0-695C-45A9-B2F6-BD58F53D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0F36C-008B-4C4D-9B3F-9D43BA35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A1C08-EAC8-45DA-B801-2F513753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36048-9830-42ED-8A54-31B86EBE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5371C-69B1-4FE4-B350-C2BB1DEA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D891-065D-4136-85C6-664C6C9C4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799"/>
              </a:spcBef>
              <a:buClr>
                <a:srgbClr val="e5e5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209680" indent="-3808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209680" indent="-38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209680" indent="-38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799"/>
              </a:spcBef>
              <a:buClr>
                <a:srgbClr val="e5e5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209680" indent="-3808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209680" indent="-38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209680" indent="-38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7085-B197-4ACF-B379-F5BD7DF1D7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rm-U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What are the 4 classes of macromolecu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Give an example of each type of macromolecul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rotein Functions (+ examples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zymes (lactas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ense (antibodi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orage (milk protein = case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ort (hemoglob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rmones (insul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ept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vement (motor protei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ructure (kerat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05_15_aProteinFunctions-L.jpg"/>
          <p:cNvPicPr/>
          <p:nvPr/>
        </p:nvPicPr>
        <p:blipFill>
          <a:blip r:embed="rId1"/>
          <a:stretch/>
        </p:blipFill>
        <p:spPr>
          <a:xfrm>
            <a:off x="76320" y="1447920"/>
            <a:ext cx="8937360" cy="49528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verview of protein fun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verview of protein fun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Picture 4" descr="05_15_bProteinFunctions-L.jpg"/>
          <p:cNvPicPr/>
          <p:nvPr/>
        </p:nvPicPr>
        <p:blipFill>
          <a:blip r:embed="rId1"/>
          <a:stretch/>
        </p:blipFill>
        <p:spPr>
          <a:xfrm>
            <a:off x="304920" y="1305000"/>
            <a:ext cx="85471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Garamond"/>
              </a:rPr>
              <a:t>Four Levels of Protein Struc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1430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im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mino acid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AA) sequ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 different AA’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peptide bond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nk AA’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4" descr="05_20aProteinStructure-L.jpg"/>
          <p:cNvPicPr/>
          <p:nvPr/>
        </p:nvPicPr>
        <p:blipFill>
          <a:blip r:embed="rId1"/>
          <a:stretch/>
        </p:blipFill>
        <p:spPr>
          <a:xfrm>
            <a:off x="5562720" y="1676520"/>
            <a:ext cx="3276360" cy="49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mino Aci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088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R group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side cha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erti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01440" indent="-485280">
              <a:spcBef>
                <a:spcPts val="799"/>
              </a:spcBef>
              <a:buClr>
                <a:srgbClr val="a886e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ydrophob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01440" indent="-485280">
              <a:spcBef>
                <a:spcPts val="799"/>
              </a:spcBef>
              <a:buClr>
                <a:srgbClr val="a886e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ydrophil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01440" indent="-485280">
              <a:spcBef>
                <a:spcPts val="799"/>
              </a:spcBef>
              <a:buClr>
                <a:srgbClr val="a886e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onic (acids &amp; bas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mino” : -N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cid” : -COO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3" descr="05_UN01AminoAcid-L.jpg"/>
          <p:cNvPicPr/>
          <p:nvPr/>
        </p:nvPicPr>
        <p:blipFill>
          <a:blip r:embed="rId1"/>
          <a:stretch/>
        </p:blipFill>
        <p:spPr>
          <a:xfrm>
            <a:off x="5181480" y="1600200"/>
            <a:ext cx="35053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05_16_AminoAcids-L.jpg"/>
          <p:cNvPicPr/>
          <p:nvPr/>
        </p:nvPicPr>
        <p:blipFill>
          <a:blip r:embed="rId1"/>
          <a:stretch/>
        </p:blipFill>
        <p:spPr>
          <a:xfrm>
            <a:off x="1828800" y="76320"/>
            <a:ext cx="586728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05_17PolypeptideChain-L.jpg"/>
          <p:cNvPicPr/>
          <p:nvPr/>
        </p:nvPicPr>
        <p:blipFill>
          <a:blip r:embed="rId1"/>
          <a:stretch/>
        </p:blipFill>
        <p:spPr>
          <a:xfrm>
            <a:off x="2054160" y="136440"/>
            <a:ext cx="503568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Four Levels of Protein Structure (continued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1890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ond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ains 3-D shape (folds, coils) by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H-bon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lpha (α) helix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Beta (</a:t>
            </a:r>
            <a:r>
              <a:rPr b="1" lang="el-GR" sz="2800" spc="-1" strike="noStrike">
                <a:solidFill>
                  <a:srgbClr val="ffff00"/>
                </a:solidFill>
                <a:latin typeface="Garamond"/>
              </a:rPr>
              <a:t>β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) pleated she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Picture 5" descr="05_20cProteinStructure-L.jpg"/>
          <p:cNvPicPr/>
          <p:nvPr/>
        </p:nvPicPr>
        <p:blipFill>
          <a:blip r:embed="rId1"/>
          <a:stretch/>
        </p:blipFill>
        <p:spPr>
          <a:xfrm>
            <a:off x="2133720" y="2819520"/>
            <a:ext cx="492732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Four Levels of Protein Structure (continued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89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rti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nding between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side chains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(R groups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 amino aci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 bonds, ionic bonds, disulfide bridges, van der Waals intera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Picture 4" descr="05_20fProteinStructure-L.jpg"/>
          <p:cNvPicPr/>
          <p:nvPr/>
        </p:nvPicPr>
        <p:blipFill>
          <a:blip r:embed="rId1"/>
          <a:stretch/>
        </p:blipFill>
        <p:spPr>
          <a:xfrm>
            <a:off x="3124080" y="2971800"/>
            <a:ext cx="563904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Four Levels of Protein Structure (continued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1887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Quatern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2+ polypeptide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nd toge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371600" y="2576520"/>
            <a:ext cx="64008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. 5 Warm-Up Activ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In your family groups, complete #1-5 on Activity 4/5.1: </a:t>
            </a:r>
            <a:r>
              <a:rPr b="0" lang="ja-JP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How can you identify organic macromolecules?</a:t>
            </a:r>
            <a:r>
              <a:rPr b="0" lang="ja-JP" sz="40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0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80240" cy="5791320"/>
          </a:xfrm>
          <a:prstGeom prst="rect">
            <a:avLst/>
          </a:prstGeom>
          <a:ln w="0">
            <a:noFill/>
          </a:ln>
        </p:spPr>
      </p:pic>
      <p:sp>
        <p:nvSpPr>
          <p:cNvPr id="161" name="Title 1"/>
          <p:cNvSpPr/>
          <p:nvPr/>
        </p:nvSpPr>
        <p:spPr>
          <a:xfrm>
            <a:off x="457200" y="228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mino acids </a:t>
            </a:r>
            <a:r>
              <a:rPr b="1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polypeptides </a:t>
            </a:r>
            <a:r>
              <a:rPr b="1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prote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MS PGothic"/>
              </a:rPr>
              <a:t>Bonding (ionic &amp; H) can create asymmetrical attraction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05_23_Chaperonin-L.jpg"/>
          <p:cNvPicPr/>
          <p:nvPr/>
        </p:nvPicPr>
        <p:blipFill>
          <a:blip r:embed="rId1"/>
          <a:stretch/>
        </p:blipFill>
        <p:spPr>
          <a:xfrm>
            <a:off x="304920" y="1981080"/>
            <a:ext cx="8547120" cy="39927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Chaperonins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assist in proper folding of protein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tein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tructure and function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e sensitive to chemical and physical condi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folds or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enatur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f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temperatur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re not optim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4" descr="05_22ProteinDenaturation-L.jpg"/>
          <p:cNvPicPr/>
          <p:nvPr/>
        </p:nvPicPr>
        <p:blipFill>
          <a:blip r:embed="rId1"/>
          <a:stretch/>
        </p:blipFill>
        <p:spPr>
          <a:xfrm>
            <a:off x="609480" y="2732040"/>
            <a:ext cx="792504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hange in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structure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= change in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funct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8" name="Content Placeholder 3" descr="05_21_SickleCellDisease-L.jpg"/>
          <p:cNvPicPr/>
          <p:nvPr/>
        </p:nvPicPr>
        <p:blipFill>
          <a:blip r:embed="rId1"/>
          <a:stretch/>
        </p:blipFill>
        <p:spPr>
          <a:xfrm>
            <a:off x="1219320" y="1295280"/>
            <a:ext cx="6818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llustrative Examples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riations within proteins provide a wider range of func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types of hemoglob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HC prote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I. Nucleic Aci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Function: store hereditary inf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64960" y="2392200"/>
          <a:ext cx="8610840" cy="3657600"/>
        </p:xfrm>
        <a:graphic>
          <a:graphicData uri="http://schemas.openxmlformats.org/drawingml/2006/table">
            <a:tbl>
              <a:tblPr/>
              <a:tblGrid>
                <a:gridCol w="4305600"/>
                <a:gridCol w="43052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N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N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Double-stranded hel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-bases: A, G, C, </a:t>
                      </a:r>
                      <a:r>
                        <a:rPr b="0" i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Thym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Stores hereditary inf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Longer/lar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Sugar: deoxyrib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Single-strand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-bases: A, G, C, </a:t>
                      </a:r>
                      <a:r>
                        <a:rPr b="0" i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Urac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Carry info from DNA to riboso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tRNA, rRNA, mRNA, RNA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Sugar: rib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ontent Placeholder 2"/>
          <p:cNvSpPr/>
          <p:nvPr/>
        </p:nvSpPr>
        <p:spPr>
          <a:xfrm>
            <a:off x="457200" y="304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Nucleotide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: monomer of DNA/RN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052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Nucleotide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Garamond"/>
              </a:rPr>
              <a:t>Sugar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Garamond"/>
              </a:rPr>
              <a:t>Phosphate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Garamond"/>
              </a:rPr>
              <a:t>Nitrogen Base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05_26aNucleicAcidCompon-L.jpg"/>
          <p:cNvPicPr/>
          <p:nvPr/>
        </p:nvPicPr>
        <p:blipFill>
          <a:blip r:embed="rId1"/>
          <a:stretch/>
        </p:blipFill>
        <p:spPr>
          <a:xfrm>
            <a:off x="1600200" y="2052720"/>
            <a:ext cx="58863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ucleot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Regular Pentagon 5"/>
          <p:cNvSpPr/>
          <p:nvPr/>
        </p:nvSpPr>
        <p:spPr>
          <a:xfrm>
            <a:off x="1600200" y="1898640"/>
            <a:ext cx="1839960" cy="1752480"/>
          </a:xfrm>
          <a:prstGeom prst="pentagon">
            <a:avLst/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609480" y="1593720"/>
            <a:ext cx="762120" cy="762120"/>
          </a:xfrm>
          <a:prstGeom prst="ellipse">
            <a:avLst/>
          </a:prstGeom>
          <a:solidFill>
            <a:srgbClr val="00b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962520" y="1822320"/>
            <a:ext cx="160020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Straight Connector 9"/>
          <p:cNvSpPr/>
          <p:nvPr/>
        </p:nvSpPr>
        <p:spPr>
          <a:xfrm>
            <a:off x="1260360" y="2244600"/>
            <a:ext cx="339840" cy="324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Straight Connector 18"/>
          <p:cNvSpPr/>
          <p:nvPr/>
        </p:nvSpPr>
        <p:spPr>
          <a:xfrm flipV="1">
            <a:off x="3440160" y="2127240"/>
            <a:ext cx="522360" cy="441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147600" y="106668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Garamond"/>
              </a:rPr>
              <a:t>phosph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Box 38"/>
          <p:cNvSpPr/>
          <p:nvPr/>
        </p:nvSpPr>
        <p:spPr>
          <a:xfrm>
            <a:off x="1600200" y="3662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Garamond"/>
              </a:rPr>
              <a:t>5-C sug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Box 39"/>
          <p:cNvSpPr/>
          <p:nvPr/>
        </p:nvSpPr>
        <p:spPr>
          <a:xfrm>
            <a:off x="5410080" y="1871640"/>
            <a:ext cx="255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Garamond"/>
              </a:rPr>
              <a:t>Nitrog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Garamond"/>
              </a:rPr>
              <a:t>ba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Box 40"/>
          <p:cNvSpPr/>
          <p:nvPr/>
        </p:nvSpPr>
        <p:spPr>
          <a:xfrm>
            <a:off x="7696080" y="167004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– 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 – 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Left Brace 15"/>
          <p:cNvSpPr/>
          <p:nvPr/>
        </p:nvSpPr>
        <p:spPr>
          <a:xfrm>
            <a:off x="7772400" y="1608120"/>
            <a:ext cx="334800" cy="1066680"/>
          </a:xfrm>
          <a:custGeom>
            <a:avLst/>
            <a:gdLst>
              <a:gd name="textAreaLeft" fmla="*/ 213840 w 334800"/>
              <a:gd name="textAreaRight" fmla="*/ 335160 w 334800"/>
              <a:gd name="textAreaTop" fmla="*/ 21960 h 1066680"/>
              <a:gd name="textAreaBottom" fmla="*/ 104472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16"/>
                  <a:pt x="10800" y="1431"/>
                </a:cubicBezTo>
                <a:lnTo>
                  <a:pt x="10800" y="9369"/>
                </a:lnTo>
                <a:cubicBezTo>
                  <a:pt x="10800" y="10085"/>
                  <a:pt x="5400" y="10800"/>
                  <a:pt x="0" y="10800"/>
                </a:cubicBezTo>
                <a:cubicBezTo>
                  <a:pt x="5400" y="10800"/>
                  <a:pt x="10800" y="11516"/>
                  <a:pt x="10800" y="12231"/>
                </a:cubicBezTo>
                <a:lnTo>
                  <a:pt x="10800" y="20169"/>
                </a:lnTo>
                <a:cubicBezTo>
                  <a:pt x="10800" y="2088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0" y="3384720"/>
          <a:ext cx="4191120" cy="217800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in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yrimidin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Aden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Guan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Cytos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Thymine (DN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Uracil (RN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Double 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Single 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pic>
        <p:nvPicPr>
          <p:cNvPr id="189" name="Picture 11" descr=""/>
          <p:cNvPicPr/>
          <p:nvPr/>
        </p:nvPicPr>
        <p:blipFill>
          <a:blip r:embed="rId1"/>
          <a:srcRect l="0" t="65838" r="47867" b="6979"/>
          <a:stretch/>
        </p:blipFill>
        <p:spPr>
          <a:xfrm>
            <a:off x="380880" y="4343400"/>
            <a:ext cx="4724640" cy="1828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"/>
          <p:cNvPicPr/>
          <p:nvPr/>
        </p:nvPicPr>
        <p:blipFill>
          <a:blip r:embed="rId2"/>
          <a:srcRect l="53201" t="34251" r="37242" b="51421"/>
          <a:stretch/>
        </p:blipFill>
        <p:spPr>
          <a:xfrm>
            <a:off x="4724280" y="2514600"/>
            <a:ext cx="312444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05_26bNucleicAcidCompon-L.jpg"/>
          <p:cNvPicPr/>
          <p:nvPr/>
        </p:nvPicPr>
        <p:blipFill>
          <a:blip r:embed="rId1"/>
          <a:stretch/>
        </p:blipFill>
        <p:spPr>
          <a:xfrm>
            <a:off x="298440" y="417600"/>
            <a:ext cx="854712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nformation flow in a cell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DNA </a:t>
            </a:r>
            <a:r>
              <a:rPr b="1" lang="en-US" sz="3200" spc="-1" strike="noStrike">
                <a:solidFill>
                  <a:srgbClr val="e5e5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RNA </a:t>
            </a:r>
            <a:r>
              <a:rPr b="1" lang="en-US" sz="3200" spc="-1" strike="noStrike">
                <a:solidFill>
                  <a:srgbClr val="e5e5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protei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3" name="Picture 3" descr="05_25DNARNAProtein_3-L.jpg"/>
          <p:cNvPicPr/>
          <p:nvPr/>
        </p:nvPicPr>
        <p:blipFill>
          <a:blip r:embed="rId1"/>
          <a:stretch/>
        </p:blipFill>
        <p:spPr>
          <a:xfrm>
            <a:off x="2286000" y="1338120"/>
            <a:ext cx="480060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rm-U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the 4 levels of protein structure? What bonds are formed in each level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protein was involved in the curds &amp; whey lab yesterda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lain what happened to the milk to form the curds and whe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II. Carbohydr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6320" y="1294920"/>
            <a:ext cx="9524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3960" indent="-36396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Fuel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building mater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3960" indent="-36396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de simple sugars (fructose) and polymers (starch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3960" indent="-36396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tio of 1 carbon: 2 hydrogen: 1 oxygen or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3960" indent="-36396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monosaccharid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disaccharid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ysacchari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3960" indent="-36396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onosaccharid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monomers (eg. glucose, ribos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3960" indent="-36396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olysaccharid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707040" indent="-364320">
              <a:spcBef>
                <a:spcPts val="700"/>
              </a:spcBef>
              <a:buClr>
                <a:srgbClr val="e5e5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torag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plants-starch, animals-glycoge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707040" indent="-364320">
              <a:spcBef>
                <a:spcPts val="601"/>
              </a:spcBef>
              <a:buClr>
                <a:srgbClr val="e5e5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tructur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plant-cellulose, arthropod-chiti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-479880">
              <a:spcBef>
                <a:spcPts val="700"/>
              </a:spcBef>
              <a:buClr>
                <a:srgbClr val="a886e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Right Brace 3"/>
          <p:cNvSpPr/>
          <p:nvPr/>
        </p:nvSpPr>
        <p:spPr>
          <a:xfrm>
            <a:off x="6985080" y="472428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24480 h 1371600"/>
              <a:gd name="textAreaBottom" fmla="*/ 13471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17"/>
                  <a:pt x="10800" y="1234"/>
                </a:cubicBezTo>
                <a:lnTo>
                  <a:pt x="10800" y="9566"/>
                </a:lnTo>
                <a:cubicBezTo>
                  <a:pt x="10800" y="10183"/>
                  <a:pt x="16200" y="10800"/>
                  <a:pt x="21600" y="10800"/>
                </a:cubicBezTo>
                <a:cubicBezTo>
                  <a:pt x="16200" y="10800"/>
                  <a:pt x="10800" y="11417"/>
                  <a:pt x="10800" y="12034"/>
                </a:cubicBezTo>
                <a:lnTo>
                  <a:pt x="10800" y="20366"/>
                </a:lnTo>
                <a:cubicBezTo>
                  <a:pt x="10800" y="2098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7137360" y="4648320"/>
            <a:ext cx="1625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iffer in position &amp; orientation of glycosidic linkag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2880" y="3352320"/>
            <a:ext cx="3657600" cy="266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The structure and classification of some monosaccharide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9" name="Picture 3" descr="05_03_Monosaccharides-L.jpg"/>
          <p:cNvPicPr/>
          <p:nvPr/>
        </p:nvPicPr>
        <p:blipFill>
          <a:blip r:embed="rId1"/>
          <a:stretch/>
        </p:blipFill>
        <p:spPr>
          <a:xfrm>
            <a:off x="762120" y="0"/>
            <a:ext cx="393048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5791320"/>
            <a:ext cx="716292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Linear and ring forms of glucos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1" name="Picture 3" descr="05_04GlucoseLinearRing-L.jpg"/>
          <p:cNvPicPr/>
          <p:nvPr/>
        </p:nvPicPr>
        <p:blipFill>
          <a:blip r:embed="rId1"/>
          <a:stretch/>
        </p:blipFill>
        <p:spPr>
          <a:xfrm>
            <a:off x="1219320" y="457200"/>
            <a:ext cx="6719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5943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Carbohydrate synthesi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3" name="Picture 6" descr="05_05DisaccharideSynth-L.jpg"/>
          <p:cNvPicPr/>
          <p:nvPr/>
        </p:nvPicPr>
        <p:blipFill>
          <a:blip r:embed="rId1"/>
          <a:stretch/>
        </p:blipFill>
        <p:spPr>
          <a:xfrm>
            <a:off x="304920" y="469800"/>
            <a:ext cx="854712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llulose vs. Starc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o Forms of Glucose: 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glucose &amp;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gluc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6" name="Picture 6" descr="05_07aStarchCellulose-L.jpg"/>
          <p:cNvPicPr/>
          <p:nvPr/>
        </p:nvPicPr>
        <p:blipFill>
          <a:blip r:embed="rId1"/>
          <a:stretch/>
        </p:blipFill>
        <p:spPr>
          <a:xfrm>
            <a:off x="291960" y="2438280"/>
            <a:ext cx="85471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llulose vs. Starc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rch =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glucose monom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ellulose =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glucose monom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9" name="Picture 3" descr="05_07bStarchCellulose-L.jpg"/>
          <p:cNvPicPr/>
          <p:nvPr/>
        </p:nvPicPr>
        <p:blipFill>
          <a:blip r:embed="rId1"/>
          <a:stretch/>
        </p:blipFill>
        <p:spPr>
          <a:xfrm>
            <a:off x="1828800" y="2232000"/>
            <a:ext cx="58672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5986440"/>
            <a:ext cx="86868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Storage polysaccharides of </a:t>
            </a:r>
            <a:r>
              <a:rPr b="1" lang="en-US" sz="2400" spc="-1" strike="noStrike" u="sng">
                <a:solidFill>
                  <a:srgbClr val="e5e5ff"/>
                </a:solidFill>
                <a:uFillTx/>
                <a:latin typeface="Garamond"/>
              </a:rPr>
              <a:t>plants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 (starch) and </a:t>
            </a:r>
            <a:r>
              <a:rPr b="1" lang="en-US" sz="2400" spc="-1" strike="noStrike" u="sng">
                <a:solidFill>
                  <a:srgbClr val="e5e5ff"/>
                </a:solidFill>
                <a:uFillTx/>
                <a:latin typeface="Garamond"/>
              </a:rPr>
              <a:t>animals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 (glycogen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1" name="Picture 3" descr="05_06_StoragePolysaccha-L.jpg"/>
          <p:cNvPicPr/>
          <p:nvPr/>
        </p:nvPicPr>
        <p:blipFill>
          <a:blip r:embed="rId1"/>
          <a:stretch/>
        </p:blipFill>
        <p:spPr>
          <a:xfrm>
            <a:off x="1225440" y="228600"/>
            <a:ext cx="66992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5334120"/>
            <a:ext cx="815328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Structural polysaccharides:  cellulose &amp; chitin (exoskeleton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3" name="Picture 11" descr=""/>
          <p:cNvPicPr/>
          <p:nvPr/>
        </p:nvPicPr>
        <p:blipFill>
          <a:blip r:embed="rId1"/>
          <a:stretch/>
        </p:blipFill>
        <p:spPr>
          <a:xfrm>
            <a:off x="228600" y="795240"/>
            <a:ext cx="5257800" cy="4538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05_09aChitin-L.jpg"/>
          <p:cNvPicPr/>
          <p:nvPr/>
        </p:nvPicPr>
        <p:blipFill>
          <a:blip r:embed="rId2"/>
          <a:stretch/>
        </p:blipFill>
        <p:spPr>
          <a:xfrm>
            <a:off x="5707080" y="762120"/>
            <a:ext cx="3208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I. Lipi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142640" y="12193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ffcc00"/>
              </a:buClr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Fats (triglyceride)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ore ener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lycerol + 3 Fatty Aci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turated, unsaturated, polyunsatur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spcBef>
                <a:spcPts val="799"/>
              </a:spcBef>
              <a:buClr>
                <a:srgbClr val="ffcc00"/>
              </a:buClr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teroids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lesterol and horm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spcBef>
                <a:spcPts val="799"/>
              </a:spcBef>
              <a:buClr>
                <a:srgbClr val="ffcc00"/>
              </a:buClr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hospholipids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pid bilayer of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ell membra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hydrophilic hea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hydrophobic tai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17" name="Group 24"/>
          <p:cNvGrpSpPr/>
          <p:nvPr/>
        </p:nvGrpSpPr>
        <p:grpSpPr>
          <a:xfrm>
            <a:off x="2957400" y="5149800"/>
            <a:ext cx="3976920" cy="1671120"/>
            <a:chOff x="2957400" y="5149800"/>
            <a:chExt cx="3976920" cy="1671120"/>
          </a:xfrm>
        </p:grpSpPr>
        <p:grpSp>
          <p:nvGrpSpPr>
            <p:cNvPr id="218" name="Group 17"/>
            <p:cNvGrpSpPr/>
            <p:nvPr/>
          </p:nvGrpSpPr>
          <p:grpSpPr>
            <a:xfrm>
              <a:off x="2957400" y="5149800"/>
              <a:ext cx="563760" cy="1479600"/>
              <a:chOff x="2957400" y="5149800"/>
              <a:chExt cx="563760" cy="147960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2957400" y="5149800"/>
                <a:ext cx="563760" cy="578880"/>
              </a:xfrm>
              <a:prstGeom prst="ellipse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0" name="Straight Connector 7"/>
              <p:cNvSpPr/>
              <p:nvPr/>
            </p:nvSpPr>
            <p:spPr>
              <a:xfrm flipH="1">
                <a:off x="3019680" y="5644080"/>
                <a:ext cx="19800" cy="9853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1" name="Straight Connector 9"/>
              <p:cNvSpPr/>
              <p:nvPr/>
            </p:nvSpPr>
            <p:spPr>
              <a:xfrm>
                <a:off x="3438000" y="5644080"/>
                <a:ext cx="19800" cy="9853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cxnSp>
          <p:nvCxnSpPr>
            <p:cNvPr id="222" name="Straight Arrow Connector 19"/>
            <p:cNvCxnSpPr/>
            <p:nvPr/>
          </p:nvCxnSpPr>
          <p:spPr>
            <a:xfrm flipH="1" flipV="1">
              <a:off x="3696480" y="5426280"/>
              <a:ext cx="555480" cy="2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3" name="Straight Arrow Connector 21"/>
            <p:cNvCxnSpPr/>
            <p:nvPr/>
          </p:nvCxnSpPr>
          <p:spPr>
            <a:xfrm flipH="1" flipV="1">
              <a:off x="3696480" y="6072120"/>
              <a:ext cx="555480" cy="2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24" name="TextBox 22"/>
            <p:cNvSpPr/>
            <p:nvPr/>
          </p:nvSpPr>
          <p:spPr>
            <a:xfrm>
              <a:off x="4252320" y="5196240"/>
              <a:ext cx="2589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aramond"/>
                </a:rPr>
                <a:t>Hydrophilic head</a:t>
              </a: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5" name="TextBox 23"/>
            <p:cNvSpPr/>
            <p:nvPr/>
          </p:nvSpPr>
          <p:spPr>
            <a:xfrm>
              <a:off x="4284720" y="5873760"/>
              <a:ext cx="26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aramond"/>
                </a:rPr>
                <a:t>Hydrophobic tail</a:t>
              </a: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05_10_FatSynthStructure-L.jpg"/>
          <p:cNvPicPr/>
          <p:nvPr/>
        </p:nvPicPr>
        <p:blipFill>
          <a:blip r:embed="rId1"/>
          <a:stretch/>
        </p:blipFill>
        <p:spPr>
          <a:xfrm>
            <a:off x="1670040" y="136440"/>
            <a:ext cx="580392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hapter 5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he Structure and Function of Large Biological Molecul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3962520"/>
          <a:ext cx="9144000" cy="2896920"/>
        </p:xfrm>
        <a:graphic>
          <a:graphicData uri="http://schemas.openxmlformats.org/drawingml/2006/table">
            <a:tbl>
              <a:tblPr/>
              <a:tblGrid>
                <a:gridCol w="3429000"/>
                <a:gridCol w="2776680"/>
                <a:gridCol w="293832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tura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nsatura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lyunsatura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saturated</a:t>
                      </a:r>
                      <a:r>
                        <a:rPr b="1" lang="ja-JP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”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with 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Have some C=C, result in kink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In anima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In pla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Solid at room temp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Liquid at room temp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Eg. butter, lar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Eg. corn oil, olive o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30" name="Picture 10" descr=""/>
          <p:cNvPicPr/>
          <p:nvPr/>
        </p:nvPicPr>
        <p:blipFill>
          <a:blip r:embed="rId1"/>
          <a:stretch/>
        </p:blipFill>
        <p:spPr>
          <a:xfrm>
            <a:off x="1066680" y="0"/>
            <a:ext cx="7105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762120" y="5006880"/>
            <a:ext cx="7924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lesterol, a steroi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3" descr="05_14Cholesterol-L.jpg"/>
          <p:cNvPicPr/>
          <p:nvPr/>
        </p:nvPicPr>
        <p:blipFill>
          <a:blip r:embed="rId1"/>
          <a:stretch/>
        </p:blipFill>
        <p:spPr>
          <a:xfrm>
            <a:off x="762120" y="811080"/>
            <a:ext cx="7656480" cy="36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3"/>
          <p:cNvSpPr/>
          <p:nvPr/>
        </p:nvSpPr>
        <p:spPr>
          <a:xfrm>
            <a:off x="1219320" y="579132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structure of a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hospholipi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4" name="Picture 3" descr="05_12_PhospholipidStruct-L.jpg"/>
          <p:cNvPicPr/>
          <p:nvPr/>
        </p:nvPicPr>
        <p:blipFill>
          <a:blip r:embed="rId1"/>
          <a:stretch/>
        </p:blipFill>
        <p:spPr>
          <a:xfrm>
            <a:off x="304920" y="304920"/>
            <a:ext cx="8547120" cy="534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533520" y="380880"/>
            <a:ext cx="7848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phobic/hydrophilic interactions make 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ospholipid bilay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572000" cy="4029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2"/>
          <a:stretch/>
        </p:blipFill>
        <p:spPr>
          <a:xfrm>
            <a:off x="5181480" y="1447920"/>
            <a:ext cx="3326040" cy="49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llustrative Examp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types of phospholipi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05_UN02_SummaryTable-L.jpg"/>
          <p:cNvPicPr/>
          <p:nvPr/>
        </p:nvPicPr>
        <p:blipFill>
          <a:blip r:embed="rId1"/>
          <a:stretch/>
        </p:blipFill>
        <p:spPr>
          <a:xfrm>
            <a:off x="1057320" y="0"/>
            <a:ext cx="702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You Must Kno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ole of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dehydration synthesi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the formation of organic compounds and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hydrolysi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the digestion of organic compoun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to recognize the 4 biologically important organic compounds (carbs, lipids, proteins, nucleic acids) by their structural formul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ellular functions of all four organic compoun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4 structural levels of prote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proteins reach their final shape (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conform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and the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denaturin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mpact that heat and pH can have on protein struc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304920"/>
          <a:ext cx="9144000" cy="33526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onomer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lymer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cromolecul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Small organic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Used for building blocks of polym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Connects with condensation reaction (dehydration synthesi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Long molecules of monom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With many identical or similar blocks linked by covalent bo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Giant molecu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 or more polymers bonded toge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  <p:sp>
        <p:nvSpPr>
          <p:cNvPr id="111" name="TextBox 4"/>
          <p:cNvSpPr/>
          <p:nvPr/>
        </p:nvSpPr>
        <p:spPr>
          <a:xfrm>
            <a:off x="152280" y="37339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e.  amino acid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eptid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olypeptid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ote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676520" y="4952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mall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5181480" y="472428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larger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14" name="Straight Arrow Connector 10"/>
          <p:cNvCxnSpPr/>
          <p:nvPr/>
        </p:nvCxnSpPr>
        <p:spPr>
          <a:xfrm>
            <a:off x="3733920" y="5257800"/>
            <a:ext cx="175320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0" y="762120"/>
          <a:ext cx="9144000" cy="4800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hydration Synthes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Condensation Reaction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ydrolys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Make polym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Breakdown polym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Monomers 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Polym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Polymers 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Monom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82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A + B </a:t>
                      </a:r>
                      <a:r>
                        <a:rPr b="0" lang="en-US" sz="3600" spc="-1" strike="noStrike">
                          <a:solidFill>
                            <a:srgbClr val="000514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6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A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AB </a:t>
                      </a:r>
                      <a:r>
                        <a:rPr b="0" lang="en-US" sz="3600" spc="-1" strike="noStrike">
                          <a:solidFill>
                            <a:srgbClr val="000514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6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A + 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grpSp>
        <p:nvGrpSpPr>
          <p:cNvPr id="117" name="Group 12"/>
          <p:cNvGrpSpPr/>
          <p:nvPr/>
        </p:nvGrpSpPr>
        <p:grpSpPr>
          <a:xfrm>
            <a:off x="368280" y="4648320"/>
            <a:ext cx="4127400" cy="579600"/>
            <a:chOff x="368280" y="4648320"/>
            <a:chExt cx="4127400" cy="579600"/>
          </a:xfrm>
        </p:grpSpPr>
        <p:sp>
          <p:nvSpPr>
            <p:cNvPr id="118" name="Rectangle 4"/>
            <p:cNvSpPr/>
            <p:nvPr/>
          </p:nvSpPr>
          <p:spPr>
            <a:xfrm>
              <a:off x="368280" y="4672800"/>
              <a:ext cx="457200" cy="457200"/>
            </a:xfrm>
            <a:prstGeom prst="rect">
              <a:avLst/>
            </a:prstGeom>
            <a:solidFill>
              <a:srgbClr val="c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19" name="Group 11"/>
            <p:cNvGrpSpPr/>
            <p:nvPr/>
          </p:nvGrpSpPr>
          <p:grpSpPr>
            <a:xfrm>
              <a:off x="761400" y="4648320"/>
              <a:ext cx="3734280" cy="579600"/>
              <a:chOff x="761400" y="4648320"/>
              <a:chExt cx="3734280" cy="579600"/>
            </a:xfrm>
          </p:grpSpPr>
          <p:sp>
            <p:nvSpPr>
              <p:cNvPr id="120" name="Rectangle 5"/>
              <p:cNvSpPr/>
              <p:nvPr/>
            </p:nvSpPr>
            <p:spPr>
              <a:xfrm>
                <a:off x="1181520" y="4672800"/>
                <a:ext cx="457200" cy="457200"/>
              </a:xfrm>
              <a:prstGeom prst="rect">
                <a:avLst/>
              </a:prstGeom>
              <a:solidFill>
                <a:srgbClr val="c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cxnSp>
            <p:nvCxnSpPr>
              <p:cNvPr id="121" name="Straight Arrow Connector 7"/>
              <p:cNvCxnSpPr/>
              <p:nvPr/>
            </p:nvCxnSpPr>
            <p:spPr>
              <a:xfrm>
                <a:off x="1778400" y="4901400"/>
                <a:ext cx="610200" cy="2160"/>
              </a:xfrm>
              <a:prstGeom prst="straightConnector1">
                <a:avLst/>
              </a:prstGeom>
              <a:ln w="50760">
                <a:solidFill>
                  <a:srgbClr val="000514"/>
                </a:solidFill>
                <a:miter/>
                <a:tailEnd len="med" type="triangle" w="med"/>
              </a:ln>
            </p:spPr>
          </p:cxnSp>
          <p:sp>
            <p:nvSpPr>
              <p:cNvPr id="122" name="Rectangle 8"/>
              <p:cNvSpPr/>
              <p:nvPr/>
            </p:nvSpPr>
            <p:spPr>
              <a:xfrm>
                <a:off x="2464920" y="4672800"/>
                <a:ext cx="762120" cy="457200"/>
              </a:xfrm>
              <a:prstGeom prst="rect">
                <a:avLst/>
              </a:prstGeom>
              <a:solidFill>
                <a:srgbClr val="c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3" name="TextBox 9"/>
              <p:cNvSpPr/>
              <p:nvPr/>
            </p:nvSpPr>
            <p:spPr>
              <a:xfrm>
                <a:off x="3124080" y="4648320"/>
                <a:ext cx="1371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514"/>
                    </a:solidFill>
                    <a:latin typeface="Garamond"/>
                  </a:rPr>
                  <a:t>+ H</a:t>
                </a:r>
                <a:r>
                  <a:rPr b="1" lang="en-US" sz="2800" spc="-1" strike="noStrike" baseline="-25000">
                    <a:solidFill>
                      <a:srgbClr val="000514"/>
                    </a:solidFill>
                    <a:latin typeface="Garamond"/>
                  </a:rPr>
                  <a:t>2</a:t>
                </a:r>
                <a:r>
                  <a:rPr b="1" lang="en-US" sz="2800" spc="-1" strike="noStrike">
                    <a:solidFill>
                      <a:srgbClr val="000514"/>
                    </a:solidFill>
                    <a:latin typeface="Garamond"/>
                  </a:rPr>
                  <a:t>O</a:t>
                </a: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4" name="TextBox 10"/>
              <p:cNvSpPr/>
              <p:nvPr/>
            </p:nvSpPr>
            <p:spPr>
              <a:xfrm>
                <a:off x="761400" y="465840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514"/>
                    </a:solidFill>
                    <a:latin typeface="Garamond"/>
                  </a:rPr>
                  <a:t>+</a:t>
                </a: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125" name="Group 22"/>
          <p:cNvGrpSpPr/>
          <p:nvPr/>
        </p:nvGrpSpPr>
        <p:grpSpPr>
          <a:xfrm>
            <a:off x="4902120" y="4657680"/>
            <a:ext cx="3936960" cy="579600"/>
            <a:chOff x="4902120" y="4657680"/>
            <a:chExt cx="3936960" cy="579600"/>
          </a:xfrm>
        </p:grpSpPr>
        <p:cxnSp>
          <p:nvCxnSpPr>
            <p:cNvPr id="126" name="Straight Arrow Connector 17"/>
            <p:cNvCxnSpPr/>
            <p:nvPr/>
          </p:nvCxnSpPr>
          <p:spPr>
            <a:xfrm>
              <a:off x="6882480" y="4886640"/>
              <a:ext cx="610200" cy="2160"/>
            </a:xfrm>
            <a:prstGeom prst="straightConnector1">
              <a:avLst/>
            </a:prstGeom>
            <a:ln w="50760">
              <a:solidFill>
                <a:srgbClr val="000514"/>
              </a:solidFill>
              <a:miter/>
              <a:tailEnd len="med" type="triangle" w="med"/>
            </a:ln>
          </p:spPr>
        </p:cxnSp>
        <p:sp>
          <p:nvSpPr>
            <p:cNvPr id="127" name="Rectangle 18"/>
            <p:cNvSpPr/>
            <p:nvPr/>
          </p:nvSpPr>
          <p:spPr>
            <a:xfrm>
              <a:off x="4902120" y="4682160"/>
              <a:ext cx="761760" cy="457920"/>
            </a:xfrm>
            <a:prstGeom prst="rect">
              <a:avLst/>
            </a:prstGeom>
            <a:solidFill>
              <a:srgbClr val="c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" name="TextBox 19"/>
            <p:cNvSpPr/>
            <p:nvPr/>
          </p:nvSpPr>
          <p:spPr>
            <a:xfrm>
              <a:off x="5587560" y="4657680"/>
              <a:ext cx="1371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514"/>
                  </a:solidFill>
                  <a:latin typeface="Garamond"/>
                </a:rPr>
                <a:t>+ H</a:t>
              </a:r>
              <a:r>
                <a:rPr b="1" lang="en-US" sz="2800" spc="-1" strike="noStrike" baseline="-25000">
                  <a:solidFill>
                    <a:srgbClr val="000514"/>
                  </a:solidFill>
                  <a:latin typeface="Garamond"/>
                </a:rPr>
                <a:t>2</a:t>
              </a:r>
              <a:r>
                <a:rPr b="1" lang="en-US" sz="2800" spc="-1" strike="noStrike">
                  <a:solidFill>
                    <a:srgbClr val="000514"/>
                  </a:solidFill>
                  <a:latin typeface="Garamond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9" name="Rectangle 14"/>
            <p:cNvSpPr/>
            <p:nvPr/>
          </p:nvSpPr>
          <p:spPr>
            <a:xfrm>
              <a:off x="7568640" y="4672080"/>
              <a:ext cx="456840" cy="457920"/>
            </a:xfrm>
            <a:prstGeom prst="rect">
              <a:avLst/>
            </a:prstGeom>
            <a:solidFill>
              <a:srgbClr val="c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0" name="Rectangle 16"/>
            <p:cNvSpPr/>
            <p:nvPr/>
          </p:nvSpPr>
          <p:spPr>
            <a:xfrm>
              <a:off x="8382240" y="4672080"/>
              <a:ext cx="456840" cy="457920"/>
            </a:xfrm>
            <a:prstGeom prst="rect">
              <a:avLst/>
            </a:prstGeom>
            <a:solidFill>
              <a:srgbClr val="c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1" name="TextBox 20"/>
            <p:cNvSpPr/>
            <p:nvPr/>
          </p:nvSpPr>
          <p:spPr>
            <a:xfrm>
              <a:off x="7962120" y="4657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514"/>
                  </a:solidFill>
                  <a:latin typeface="Garamond"/>
                </a:rPr>
                <a:t>+</a:t>
              </a: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05_02_Polymers-L.jpg"/>
          <p:cNvPicPr/>
          <p:nvPr/>
        </p:nvPicPr>
        <p:blipFill>
          <a:blip r:embed="rId1"/>
          <a:stretch/>
        </p:blipFill>
        <p:spPr>
          <a:xfrm>
            <a:off x="2008080" y="136440"/>
            <a:ext cx="512784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. Prote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roteios” = first or primar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50% dry weight of cel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ntains: C, H, O, N, 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2262240" y="3578400"/>
            <a:ext cx="2790720" cy="55958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5410080" y="595296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yoglobin prote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3:22:27Z</dcterms:created>
  <dc:creator>Chris Nancy Chou</dc:creator>
  <dc:description/>
  <dc:language>en-US</dc:language>
  <cp:lastModifiedBy>Chris Nancy Chou</cp:lastModifiedBy>
  <dcterms:modified xsi:type="dcterms:W3CDTF">2012-09-12T03:05:06Z</dcterms:modified>
  <cp:revision>81</cp:revision>
  <dc:subject/>
  <dc:title>Warm-Up</dc:title>
</cp:coreProperties>
</file>